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17F-8FE8-4078-A115-97BAFE67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E00-AB54-4823-8301-63C1CADD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A60-B0BE-40C5-AB92-74F4AA9B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470-298A-4017-8602-AD161AA4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EDE4-212D-46C1-94F8-9C7D11F2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D9FE-08DE-4C42-9F2B-DDD9FFC7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86F5-F62C-4B02-AD69-5AD9C935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3D92-DF53-4775-BC4B-E0B8C5A3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A9BA-8EC3-4250-BA05-D0738D55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8508-3791-41A9-9F68-6607C280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E3D9-0616-44D3-9444-907D09F5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229-E31D-4B34-B65C-F7AF63CC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64B3-DFA4-4D6E-9A4B-084B2344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D3A0-E23B-4315-AF85-B99B86BC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A2B9-ACEB-496A-9585-CF32276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E67D-7C00-466A-8A3F-35EB6D70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2EFF-5077-4CD2-8A6B-3F5D74CF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2AC-5E6A-4B13-B46A-C77840A0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F63-A2C5-4DC1-AE0F-AA9F1ED0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220-D7D7-432E-BCCE-A52126B6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565-B052-488C-B8B6-749BFD7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191-E375-4CB2-9DBA-799C5D4F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3FC-6724-4FCA-BE56-4A4AC95C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86A-F817-4CA9-9F39-9C01821E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7961-E510-4007-8A00-845404CC4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E91A-A222-445E-8768-C2152983D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ammal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678168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TCS 412 Cryptograp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semester 2006/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0 -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C64A-9374-44B2-A07D-0A040B5A5E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rckhoff’s Princi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ity should depend only on th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assume enemy won’t know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capture machines, disassemble program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 expensive to invent new algorithm if it might have been compromi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through obscurity is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t history of 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to have scrutiny by open expe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my knows the system being used.” (Claude Shann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90A-D5DD-4457-B775-E2A155A489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ice and Bo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60640" y="1879560"/>
            <a:ext cx="137160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19800" y="1882800"/>
            <a:ext cx="1371600" cy="914400"/>
          </a:xfrm>
          <a:prstGeom prst="rect">
            <a:avLst/>
          </a:prstGeom>
          <a:solidFill>
            <a:srgbClr val="ffc8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63" idx="1"/>
          </p:cNvCxnSpPr>
          <p:nvPr/>
        </p:nvCxnSpPr>
        <p:spPr>
          <a:xfrm>
            <a:off x="3431880" y="2336400"/>
            <a:ext cx="198792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410760" y="21081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85520" y="18730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5" idx="3"/>
            <a:endCxn id="262" idx="1"/>
          </p:cNvCxnSpPr>
          <p:nvPr/>
        </p:nvCxnSpPr>
        <p:spPr>
          <a:xfrm>
            <a:off x="1761840" y="2336400"/>
            <a:ext cx="2991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7133760" y="21114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3" idx="3"/>
            <a:endCxn id="268" idx="1"/>
          </p:cNvCxnSpPr>
          <p:nvPr/>
        </p:nvCxnSpPr>
        <p:spPr>
          <a:xfrm>
            <a:off x="6791040" y="2339640"/>
            <a:ext cx="34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495160" y="30686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99ff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0"/>
            <a:endCxn id="262" idx="2"/>
          </p:cNvCxnSpPr>
          <p:nvPr/>
        </p:nvCxnSpPr>
        <p:spPr>
          <a:xfrm flipV="1">
            <a:off x="2746080" y="2793240"/>
            <a:ext cx="1080" cy="27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5840280" y="309888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99ff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0"/>
          </p:cNvCxnSpPr>
          <p:nvPr/>
        </p:nvCxnSpPr>
        <p:spPr>
          <a:xfrm flipV="1">
            <a:off x="6095520" y="2823480"/>
            <a:ext cx="1080" cy="27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23960" y="41036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28680" y="42242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6480" y="2747880"/>
            <a:ext cx="1067040" cy="1295640"/>
          </a:xfrm>
          <a:prstGeom prst="smileyFace">
            <a:avLst>
              <a:gd name="adj" fmla="val 9282"/>
            </a:avLst>
          </a:prstGeom>
          <a:solidFill>
            <a:srgbClr val="ffc8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42200" y="2824200"/>
            <a:ext cx="1066680" cy="1295280"/>
          </a:xfrm>
          <a:prstGeom prst="smileyFace">
            <a:avLst>
              <a:gd name="adj" fmla="val 9282"/>
            </a:avLst>
          </a:prstGeom>
          <a:solidFill>
            <a:srgbClr val="fefc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65080" y="3129120"/>
            <a:ext cx="25740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41400" y="3160800"/>
            <a:ext cx="92160" cy="759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7520" y="3129120"/>
            <a:ext cx="25740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3840" y="3160800"/>
            <a:ext cx="92160" cy="759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18320" y="3205080"/>
            <a:ext cx="257400" cy="15264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94640" y="3236760"/>
            <a:ext cx="921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23240" y="3205080"/>
            <a:ext cx="257040" cy="15264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99560" y="3236760"/>
            <a:ext cx="9180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45520" y="4267080"/>
            <a:ext cx="518976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E(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)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-46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D(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) =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-46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ymmet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ymmet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C13-F4A7-4105-A4F2-0555B8B01AB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stitution Cip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= 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)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K[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s alphabet mapp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, 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attacker knows algorithm but not key, how many keys to 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1120" y="48499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24160" y="5318280"/>
            <a:ext cx="76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very person on earth tried one per second, it would take 5B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303-4892-4211-8A40-1675A722FA98}" type="slidenum">
              <a:t>1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noalphabetic Cip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XBW HGQW XS ACFPSUWG FWPGWXF CF AWWKZV CDQGJCDWA CD BHYJD DJXHGW; WUWD XBW ZWJFX PHGCSHF YCDA CF GSHFWA LV XBW KGSYCFW SI FBJGCDQ RDSOZWAQW OCXBBWZA IGSY SXBWGF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E2B-215B-4CEF-B6F4-D3F011528AF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quency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1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XBW HGQW XS ACFPSUWG FWPGWXF CF AWWKZV CDQGJCDWA CD BHYJD DJXHGW; WUWD XBW ZWJFX PHGCSHF YCDA CF GSHFWA LV XBW KGSYCFW SI FBJGCDQ RDSOZWAQW OCXBBWZA IGSY SXBWG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: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Normal” Engli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: 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: 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: 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375-1373-47CD-8CFD-B330A8B49F3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ttern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988640"/>
            <a:ext cx="77724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XBe HGQe XS ACFPSUeG FePGeXF CF AeeKZV CDQGJCDeA CD BHYJD DJXHGe; eUeD XBe ZeJFX PHGCSHF YCDA CF GSHFeA LV XBe KGSYCFe SI FBJGCDQ RDSOZeAQe OCXBBeZA IGSY SXBeG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Be = “th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st common trigrams in Engli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= 6.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d = 3.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CD0-E9BE-4D15-9361-5FFFCD0FA34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2060640"/>
            <a:ext cx="77724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GQe tS ACFPSUeG FePGetF CF AeeKZV CDQGJCDeA CD hHYJD DJtHGe; eUeD the ZeJFt PHGCSHF YCDA CF GSHFeA LV the KGSYCFe SI FhJGCDQ RDSOZeAQe OCthheZA IGSY StheG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 = “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230-18E9-45CE-B851-E5C9050BAD3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GQe to ACFPoUeG FePGetF CF AeeKZV CDQGJCDeA CD hHYJD DJtHGe; eUeD the ZeJFt PHGCoHF YCDA CF GoHFeA LV the KGoYCFe oI FhJGCDQ RDoOZeAQe OCthheZA IGoY otheG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theGF = “oth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264-D1F4-4B35-A4D2-D943D62D14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rQe to ACsPoUer sePrets Cs AeeKZV CDQrJCDeA CD hHYJD DJtHre; eUeD the ZeJst PHrCoHs YCDA Cs roHseA LV the KroYCse oI shJrCDQ RDoOZeAQe OCthheZA IroY other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Prets” = “secre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820-A523-43C9-974A-E01CA2AE961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988640"/>
            <a:ext cx="77724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rQe to ACscoUer secrets Cs AeeKZV CDQrJCDeA CD hHYJD DJtHre; eUeD the ZeJst cHrCoHs YCDA Cs roHseA LV the KroYCse oI shJrCDQ RDoOZeAQe OCthheZA IroY other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scoUer” = “disco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AAA-EF88-4BED-94D4-64CC6373620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Infor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or: Hesham Al-Am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m S40-068, Telephone 17-43 766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: hesham@itc.uob.b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hours: UT 10-11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site: 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alamma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.yahoo.com/group/itcs4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C80-F1C2-4DA3-9358-EAD03A9456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e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060640"/>
            <a:ext cx="77724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“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e HrQe to discover secrets is deeKZV iDQrJiDed iD hHYJD DJtHre; eveD the ZeJst cHrioHs YiDd is roHsed LV the KroYise oI shJriDQ RDoOZedQe OithheZd IroY other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B5D-813A-41E5-A3EB-F920C5AD80B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noalphabetic Cip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rge to discover secrets is deeply ingrained in human nature; even the least curious mind is roused by the promise of sharing knowledge withheld from other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John Chadwic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Decipherment of Linear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1FB-AB9D-4BD2-B5AC-FB685030FE4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was it so eas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2060280"/>
            <a:ext cx="77724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hide statistical properties of plai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hide relationships in plaintext (EE cannot match d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(and all natural languages) are very redundant: about 1.3 bits of information per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ss English with gzip – about 1: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8AD-879C-42FE-BE46-93FF7256161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make it hard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84464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m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e statistical proper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 “e” with 12 different symbols, “t” with 9 different symbol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ulls, remove 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alphbetic ci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ifferent sub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mble order of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AEA-CAA2-4D39-AD92-8EB0714BB5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hertext-only - How much Ciphertex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Plaintext - often “Guessed Plaintex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sen Plaintext (get ciphertex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s uncommon as it sound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sen Ciphertext (get plaintex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ster 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ber-hose cryptanalysi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analyst uses threats, blackmail, torture, bribery to get the k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9640" y="4149720"/>
            <a:ext cx="8167320" cy="2231640"/>
            <a:chOff x="539640" y="4149720"/>
            <a:chExt cx="8167320" cy="2231640"/>
          </a:xfrm>
        </p:grpSpPr>
        <p:sp>
          <p:nvSpPr>
            <p:cNvPr id="316" name=""/>
            <p:cNvSpPr/>
            <p:nvPr/>
          </p:nvSpPr>
          <p:spPr>
            <a:xfrm>
              <a:off x="539640" y="4183200"/>
              <a:ext cx="7982640" cy="2198160"/>
            </a:xfrm>
            <a:prstGeom prst="rect">
              <a:avLst/>
            </a:prstGeom>
            <a:noFill/>
            <a:ln w="255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32400" y="4149720"/>
              <a:ext cx="41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ff99"/>
                  </a:solidFill>
                  <a:latin typeface="Arial"/>
                </a:rPr>
                <a:t>Not recommended in ITCS4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993-7129-4837-80DE-C061642D89FB}" type="slidenum">
              <a:t>24</a:t>
            </a:fld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8000" y="176040"/>
            <a:ext cx="624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ally Brief History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rst 4000 ye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54100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8480" y="34732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e1ff"/>
                </a:solidFill>
                <a:latin typeface="Arial"/>
              </a:rPr>
              <a:t>Cryptogra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6960" y="47563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Cryptanaly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523880" y="3746520"/>
            <a:ext cx="3489480" cy="21600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2920" y="5508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000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19880" y="393048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oalphabe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5257800"/>
            <a:ext cx="2362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21640" y="5562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05320" y="3123720"/>
            <a:ext cx="152280" cy="213372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40960" y="495000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-Kindi - frequency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657600" y="2863440"/>
            <a:ext cx="4368960" cy="26028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32120" y="3798720"/>
            <a:ext cx="29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berti – first polyalphabetic cip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80240" y="5562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1324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013360" y="2057040"/>
            <a:ext cx="609480" cy="168444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5240" y="23256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genè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28480" y="5562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6148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14920" y="1676520"/>
            <a:ext cx="3300480" cy="38088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8032680" y="658440"/>
            <a:ext cx="263520" cy="219708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96720" y="3092400"/>
            <a:ext cx="229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bbage breaks Vigenè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siski (1863) publish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8290080" y="636480"/>
            <a:ext cx="653760" cy="2376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AFB-4526-4634-9C1F-98E7483A6E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8000" y="175680"/>
            <a:ext cx="624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lly Brief History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st 100 ye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4100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" y="47242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e1ff"/>
                </a:solidFill>
                <a:latin typeface="Arial"/>
              </a:rPr>
              <a:t>Cryptogra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6960" y="3765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Cryptanaly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066680" y="5105520"/>
            <a:ext cx="1219320" cy="6336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066680" y="4267080"/>
            <a:ext cx="2438640" cy="7632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240" y="554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286000" y="3123720"/>
            <a:ext cx="533520" cy="197172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2092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13480" y="554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286000" y="1523520"/>
            <a:ext cx="0" cy="3581640"/>
          </a:xfrm>
          <a:prstGeom prst="line">
            <a:avLst/>
          </a:prstGeom>
          <a:ln cap="rnd" w="19080">
            <a:solidFill>
              <a:srgbClr val="afe1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52960" y="145080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uborgne – one-time p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32160" y="4419720"/>
            <a:ext cx="24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chanical ciphers - Enig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4024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32440" y="554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487680" y="2976120"/>
            <a:ext cx="117360" cy="129060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51400" y="3465360"/>
            <a:ext cx="211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wski repeated message-key att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798640" y="3075120"/>
            <a:ext cx="987480" cy="5544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2666880"/>
            <a:ext cx="258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uring’s loop attacks, Coloss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786120" y="2627280"/>
            <a:ext cx="117720" cy="44784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4000" y="2549520"/>
            <a:ext cx="33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igma adds rotors, stops repeated k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608280" y="2895120"/>
            <a:ext cx="525600" cy="7956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122720" y="2341080"/>
            <a:ext cx="163440" cy="54612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898800" y="2514240"/>
            <a:ext cx="1816200" cy="11916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70320" y="54259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62880" y="5562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267080" y="2238480"/>
            <a:ext cx="2173320" cy="12384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86280" y="2362320"/>
            <a:ext cx="217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eistel block cipher,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703840" y="1912680"/>
            <a:ext cx="109440" cy="59220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426360" y="1933200"/>
            <a:ext cx="66600" cy="30492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791320" y="1828800"/>
            <a:ext cx="1218960" cy="63360"/>
          </a:xfrm>
          <a:prstGeom prst="line">
            <a:avLst/>
          </a:prstGeom>
          <a:ln w="19080">
            <a:solidFill>
              <a:srgbClr val="a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477120" y="1828800"/>
            <a:ext cx="533160" cy="12384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57960" y="1957320"/>
            <a:ext cx="29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ear, Differential Crypt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010280" y="1676160"/>
            <a:ext cx="1295640" cy="152280"/>
          </a:xfrm>
          <a:prstGeom prst="line">
            <a:avLst/>
          </a:prstGeom>
          <a:ln w="19080">
            <a:solidFill>
              <a:srgbClr val="99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010280" y="1752480"/>
            <a:ext cx="1295640" cy="76320"/>
          </a:xfrm>
          <a:prstGeom prst="line">
            <a:avLst/>
          </a:prstGeom>
          <a:ln w="19080">
            <a:solidFill>
              <a:srgbClr val="afe1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58160" y="1560240"/>
            <a:ext cx="1247760" cy="244440"/>
          </a:xfrm>
          <a:prstGeom prst="line">
            <a:avLst/>
          </a:prstGeom>
          <a:ln w="19080">
            <a:solidFill>
              <a:srgbClr val="afe1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3320" y="1523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21320" y="5410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13880" y="554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9720" y="29034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-K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468200" y="898560"/>
            <a:ext cx="14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ntum Cryp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990720" y="533376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914040" y="525780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8BF-637E-4F1D-89F3-D93A3043AE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mark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1773000"/>
            <a:ext cx="83055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s race between cryptographers and cryptanaly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often disconnect between two (e.g., Mary Queen of Scots uses monoalphabetic cipher long after known break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disciplinary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guists, mathematicians, computer scientists, physic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cy often means advances rediscovered and miscre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7BD-8BC1-47C9-80DC-4ED984AE35C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mar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ted by needs of government: war is the great cataly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ptanalysis advances led by most threatened count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(1800s), Poland (1930s), England/US (WWII), Israel? (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8AE-898C-4930-9900-5126109E47F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curity vs. Pragmat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-off between security and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-time pad: perfect security, but requires distribution and secrecy of long 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: short key, fast algorithm, but break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cryptography: perfect security, guaranteed secrecy of key, slow, requires expensive hard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spend $10M to protect $1M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protect $1B with encryption that can be broken for $1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A60-3344-4E83-8C72-E0990EEE51A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yptograph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metric key (conventional), public k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s, message authentication, secret sharing, zero-knowledge proof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voting, digital ca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System Securit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usion det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ruses and other intru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ewa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B4D-EFDF-4B80-8373-8AFABD0121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you should register this cours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s an important subj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yptography is very important for computer secur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privacy, e-ca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lectual curios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ike playing with puzzles and learning new th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fu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ant to find a good job and make mone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security is a growing need for every institu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sinesses pay lots of money for being saf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201-31C1-4BD3-BAE4-6C0B19D41F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d reasons for taking this cours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to break into the computer of the registration at UOB and change your gr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to steal money by accessing your bank’s compu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to write the world’s most destructive vir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to prove how insecure MS Windows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asn’t anything else to 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783-AD9F-4DEA-969C-E2625A0E26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ryptolog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k: Krypto = H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logy = Science of Hiding, includ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graphy, cryptanalysis, steganograp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graphy = secret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analysis = analyzing and breaking co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pher = wh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analysis = wh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ganography = Covered mesag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B5D-84D1-4A73-ABE4-5E345A621B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yptology vs. Secu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ptology is a subject in mathema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proofs and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s can be peer revie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is a system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uses cryptography and oth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st way to violate security is throug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6DD-8AEE-4D53-9937-4EE2539CA4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09960" y="2637000"/>
            <a:ext cx="137160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68760" y="2639880"/>
            <a:ext cx="1371600" cy="914400"/>
          </a:xfrm>
          <a:prstGeom prst="rect">
            <a:avLst/>
          </a:prstGeom>
          <a:solidFill>
            <a:srgbClr val="ffc8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6" idx="3"/>
            <a:endCxn id="227" idx="1"/>
          </p:cNvCxnSpPr>
          <p:nvPr/>
        </p:nvCxnSpPr>
        <p:spPr>
          <a:xfrm>
            <a:off x="3481560" y="3094200"/>
            <a:ext cx="198792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460080" y="28656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34840" y="26305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9" idx="3"/>
            <a:endCxn id="226" idx="1"/>
          </p:cNvCxnSpPr>
          <p:nvPr/>
        </p:nvCxnSpPr>
        <p:spPr>
          <a:xfrm>
            <a:off x="1811160" y="3093840"/>
            <a:ext cx="29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7183080" y="28684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27" idx="3"/>
            <a:endCxn id="232" idx="1"/>
          </p:cNvCxnSpPr>
          <p:nvPr/>
        </p:nvCxnSpPr>
        <p:spPr>
          <a:xfrm>
            <a:off x="6840360" y="3096720"/>
            <a:ext cx="34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849600" y="49370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73440" y="4981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81280"/>
            <a:ext cx="1066680" cy="1295640"/>
          </a:xfrm>
          <a:prstGeom prst="smileyFace">
            <a:avLst>
              <a:gd name="adj" fmla="val 9282"/>
            </a:avLst>
          </a:prstGeom>
          <a:solidFill>
            <a:srgbClr val="ffc8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3581280"/>
            <a:ext cx="1066680" cy="1295640"/>
          </a:xfrm>
          <a:prstGeom prst="smileyFace">
            <a:avLst>
              <a:gd name="adj" fmla="val 9282"/>
            </a:avLst>
          </a:prstGeom>
          <a:solidFill>
            <a:srgbClr val="fefc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3962520"/>
            <a:ext cx="25704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3994200"/>
            <a:ext cx="92160" cy="763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43160" y="3962520"/>
            <a:ext cx="25704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19120" y="3994200"/>
            <a:ext cx="92160" cy="763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62720" y="3962520"/>
            <a:ext cx="25740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39040" y="3994200"/>
            <a:ext cx="921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67640" y="3962520"/>
            <a:ext cx="257040" cy="1522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43960" y="3994200"/>
            <a:ext cx="9180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3352680"/>
            <a:ext cx="1676520" cy="1860120"/>
            <a:chOff x="3657600" y="3352680"/>
            <a:chExt cx="1676520" cy="1860120"/>
          </a:xfrm>
        </p:grpSpPr>
        <p:sp>
          <p:nvSpPr>
            <p:cNvPr id="247" name=""/>
            <p:cNvSpPr/>
            <p:nvPr/>
          </p:nvSpPr>
          <p:spPr>
            <a:xfrm>
              <a:off x="3657600" y="3581280"/>
              <a:ext cx="380880" cy="533520"/>
            </a:xfrm>
            <a:prstGeom prst="ellipse">
              <a:avLst/>
            </a:prstGeom>
            <a:solidFill>
              <a:srgbClr val="ffc8b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52880" y="3657600"/>
              <a:ext cx="381240" cy="533520"/>
            </a:xfrm>
            <a:prstGeom prst="ellipse">
              <a:avLst/>
            </a:prstGeom>
            <a:solidFill>
              <a:srgbClr val="ffc8b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58360" y="47530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v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1066680" cy="1295640"/>
            </a:xfrm>
            <a:prstGeom prst="smileyFace">
              <a:avLst>
                <a:gd name="adj" fmla="val 9282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38640" y="3733920"/>
              <a:ext cx="257040" cy="15228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14960" y="3765600"/>
              <a:ext cx="91800" cy="763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43560" y="3733920"/>
              <a:ext cx="257040" cy="15228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9520" y="3765600"/>
              <a:ext cx="92160" cy="763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05080" y="205740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cure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41000" y="499752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E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D(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must be invert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50B-D0A4-4413-9709-93C5EE8C05D9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ypt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involves 2 th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Lecture1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917-23B2-438A-9477-EDFA6B2DEC6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18:45:30Z</dcterms:created>
  <dc:creator>H M A</dc:creator>
  <dc:description/>
  <dc:language>en-US</dc:language>
  <cp:lastModifiedBy> </cp:lastModifiedBy>
  <dcterms:modified xsi:type="dcterms:W3CDTF">2006-09-16T19:32:23Z</dcterms:modified>
  <cp:revision>26</cp:revision>
  <dc:subject/>
  <dc:title>CSC 371 Cryptography and Data Security</dc:title>
</cp:coreProperties>
</file>