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005C-B127-44AF-9525-3A694134B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211D-6F65-4A62-BD38-4D724293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90F0-9F9C-4B6A-B07A-ECB0DB3FB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4B87-60D7-47FF-99B7-76A525A91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9E4A-05E6-469D-98A2-7AE5F855D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DA48-4AF8-41DC-AB18-DF354B22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11A45-7262-4FCC-B6B0-CB8480D9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0493-B287-4152-AC89-34B8F58F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8902-AB59-4B95-AC06-AD66FBB0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D532-9231-45C4-BE9E-DC686F96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C10F-8B6A-4CE2-833E-FE07FA73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AF6B-35A8-405A-B5BD-6096D344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9AF0-A3A9-4C0E-8408-5C125BF4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9E05-7D00-45B0-9715-089AEA3F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87C9-F22B-437D-A576-E92CC942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D90B-C370-43A3-A391-B0389772B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A14A-8AE4-49A6-A869-083B9C60C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935B-C0F5-47BD-B7B0-CA4AEFE6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685F-4A62-455F-91EF-7FF96F5F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8DC4-CF69-42BE-8F5A-FA5D1B1E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944C-E5E2-4E30-86C8-8BCB2AE2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EB84-C30B-461A-9340-52CA2B4F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C3D7-1C3C-42F9-8370-0F0B80AD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8499-6593-450A-BC1B-FCD83AEF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1E0E-9A0D-472A-A1EE-AE10A2F24A4B}" type="slidenum">
              <a:rPr b="0" lang="ar-BH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726D-791A-4956-AAC8-7D6E57760A09}" type="slidenum">
              <a:rPr b="0" lang="ar-BH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lammal.com/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678168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SC 371 Cryptograph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sham Al-Amm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semester 2004/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cture 1 - 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8BAB-0BF2-4119-861E-60CD45F0DD5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rckhoff’s Princip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urity should depend only on the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assume enemy won’t know algorith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capture machines, disassemble program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o expensive to invent new algorithm if it might have been compromi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rity through obscurity isn’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ok at history of exam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tter to have scrutiny by open exper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emy knows the system being used.” (Claude Shann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1ED0-742F-456D-8AFC-436C672B229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lice and Bob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060640" y="1879560"/>
            <a:ext cx="137160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ry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19800" y="1882800"/>
            <a:ext cx="1371600" cy="914400"/>
          </a:xfrm>
          <a:prstGeom prst="rect">
            <a:avLst/>
          </a:prstGeom>
          <a:solidFill>
            <a:srgbClr val="ffc8b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y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62" idx="3"/>
            <a:endCxn id="263" idx="1"/>
          </p:cNvCxnSpPr>
          <p:nvPr/>
        </p:nvCxnSpPr>
        <p:spPr>
          <a:xfrm>
            <a:off x="3431880" y="2336400"/>
            <a:ext cx="1987920" cy="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410760" y="210816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85520" y="18730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pher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7" name=""/>
          <p:cNvCxnSpPr>
            <a:stCxn id="265" idx="3"/>
            <a:endCxn id="262" idx="1"/>
          </p:cNvCxnSpPr>
          <p:nvPr/>
        </p:nvCxnSpPr>
        <p:spPr>
          <a:xfrm>
            <a:off x="1761840" y="2336400"/>
            <a:ext cx="2991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7133760" y="211140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9" name=""/>
          <p:cNvCxnSpPr>
            <a:stCxn id="263" idx="3"/>
            <a:endCxn id="268" idx="1"/>
          </p:cNvCxnSpPr>
          <p:nvPr/>
        </p:nvCxnSpPr>
        <p:spPr>
          <a:xfrm>
            <a:off x="6791040" y="2339640"/>
            <a:ext cx="340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0" name=""/>
          <p:cNvSpPr/>
          <p:nvPr/>
        </p:nvSpPr>
        <p:spPr>
          <a:xfrm>
            <a:off x="2495160" y="3068640"/>
            <a:ext cx="50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99ff99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1" name=""/>
          <p:cNvCxnSpPr>
            <a:stCxn id="270" idx="0"/>
            <a:endCxn id="262" idx="2"/>
          </p:cNvCxnSpPr>
          <p:nvPr/>
        </p:nvCxnSpPr>
        <p:spPr>
          <a:xfrm flipV="1">
            <a:off x="2746080" y="2793240"/>
            <a:ext cx="1080" cy="2754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5840280" y="309888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99ff99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3" name=""/>
          <p:cNvCxnSpPr>
            <a:stCxn id="272" idx="0"/>
          </p:cNvCxnSpPr>
          <p:nvPr/>
        </p:nvCxnSpPr>
        <p:spPr>
          <a:xfrm flipV="1">
            <a:off x="6095520" y="2823480"/>
            <a:ext cx="1080" cy="2754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23960" y="410364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528680" y="422424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6480" y="2747880"/>
            <a:ext cx="1067040" cy="1295640"/>
          </a:xfrm>
          <a:prstGeom prst="smileyFace">
            <a:avLst>
              <a:gd name="adj" fmla="val 9282"/>
            </a:avLst>
          </a:prstGeom>
          <a:solidFill>
            <a:srgbClr val="ffc8b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42200" y="2824200"/>
            <a:ext cx="1066680" cy="1295280"/>
          </a:xfrm>
          <a:prstGeom prst="smileyFace">
            <a:avLst>
              <a:gd name="adj" fmla="val 9282"/>
            </a:avLst>
          </a:prstGeom>
          <a:solidFill>
            <a:srgbClr val="fefc9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65080" y="3129120"/>
            <a:ext cx="257400" cy="152280"/>
          </a:xfrm>
          <a:prstGeom prst="ellipse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41400" y="3160800"/>
            <a:ext cx="92160" cy="759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217520" y="3129120"/>
            <a:ext cx="257400" cy="152280"/>
          </a:xfrm>
          <a:prstGeom prst="ellipse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93840" y="3160800"/>
            <a:ext cx="92160" cy="759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618320" y="3205080"/>
            <a:ext cx="257400" cy="152640"/>
          </a:xfrm>
          <a:prstGeom prst="ellipse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694640" y="3236760"/>
            <a:ext cx="9216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923240" y="3205080"/>
            <a:ext cx="257040" cy="152640"/>
          </a:xfrm>
          <a:prstGeom prst="ellipse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999560" y="3236760"/>
            <a:ext cx="9180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045520" y="4267080"/>
            <a:ext cx="5189760" cy="22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= E(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P) =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 baseline="-46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 = D(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C) = 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 baseline="-46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t i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ymmetr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cry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t i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symmetr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cry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B580-6E8D-4965-83B1-9B917C975C9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bstitution Ciph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 = E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)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K[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is alphabet mapp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, b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,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se attacker knows algorithm but not key, how many keys to tr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161120" y="484992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6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424160" y="5318280"/>
            <a:ext cx="761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every person on earth tried one per second, it would take 5B ye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71D7-AC5B-4511-81B1-A598B3328C55}" type="slidenum">
              <a:t>12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noalphabetic Ciph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“</a:t>
            </a:r>
            <a:r>
              <a:rPr b="0" lang="en-US" sz="32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XBW HGQW XS ACFPSUWG FWPGWXF CF AWWKZV CDQGJCDWA CD BHYJD DJXHGW; WUWD XBW ZWJFX PHGCSHF YCDA CF GSHFWA LV XBW KGSYCFW SI FBJGCDQ RDSOZWAQW OCXBBWZA IGSY SXBWGF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4814-2320-4023-B252-0C1932AED35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requency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61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“</a:t>
            </a:r>
            <a:r>
              <a:rPr b="0" lang="en-US" sz="2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XBW HGQW XS ACFPSUWG FWPGWXF CF AWWKZV CDQGJCDWA CD BHYJD DJXHGW; WUWD XBW ZWJFX PHGCSHF YCDA CF GSHFWA LV XBW KGSYCFW SI FBJGCDQ RDSOZWAQW OCXBBWZA IGSY SXBWGF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: 2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“Normal” Englis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: 1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2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: 1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G: 1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8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7D8A-7225-4C37-B436-AA8B0CA5440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attern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480" y="1988640"/>
            <a:ext cx="7772400" cy="37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“</a:t>
            </a:r>
            <a:r>
              <a:rPr b="0" lang="en-US" sz="2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XBe HGQe XS ACFPSUeG FePGeXF CF AeeKZV CDQGJCDeA CD BHYJD DJXHGe; eUeD XBe ZeJFX PHGCSHF YCDA CF GSHFeA LV XBe KGSYCFe SI FBJGCDQ RDSOZeAQe OCXBBeZA IGSY SXBeGF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XBe = “th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ost common trigrams in Englis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 = 6.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nd = 3.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E24A-6B31-4DB7-883C-E3D10856771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u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2060640"/>
            <a:ext cx="7772400" cy="36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“</a:t>
            </a:r>
            <a:r>
              <a:rPr b="0" lang="en-US" sz="2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e HGQe tS ACFPSUeG FePGetF CF AeeKZV CDQGJCDeA CD hHYJD DJtHGe; eUeD the ZeJFt PHGCSHF YCDA CF GSHFeA LV the KGSYCFe SI FhJGCDQ RDSOZeAQe OCthheZA IGSY StheGF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 = “o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CD3C-02BB-4E06-BF8E-E3FC67E0142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u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35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“</a:t>
            </a:r>
            <a:r>
              <a:rPr b="0" lang="en-US" sz="2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e HGQe to ACFPoUeG FePGetF CF AeeKZV CDQGJCDeA CD hHYJD DJtHGe; eUeD the ZeJFt PHGCoHF YCDA CF GoHFeA LV the KGoYCFe oI FhJGCDQ RDoOZeAQe OCthheZA IGoY otheGF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theGF = “other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674E-2583-4B9D-A330-BD2CCEB67F6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u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35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“</a:t>
            </a:r>
            <a:r>
              <a:rPr b="0" lang="en-US" sz="2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e HrQe to ACsPoUer sePrets Cs AeeKZV CDQrJCDeA CD hHYJD DJtHre; eUeD the ZeJst PHrCoHs YCDA Cs roHseA LV the KroYCse oI shJrCDQ RDoOZeAQe OCthheZA IroY other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Prets” = “secret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EC1F-8A50-47E1-98B7-B54A8269DC4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u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1988640"/>
            <a:ext cx="7772400" cy="37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“</a:t>
            </a:r>
            <a:r>
              <a:rPr b="0" lang="en-US" sz="2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e HrQe to ACscoUer secrets Cs AeeKZV CDQrJCDeA CD hHYJD DJtHre; eUeD the ZeJst cHrCoHs YCDA Cs roHseA LV the KroYCse oI shJrCDQ RDoOZeAQe OCthheZA IroY other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CscoUer” = “discove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14C7-0994-455C-8BD8-91433CE3782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urse Inform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ructor: Hesham Al-Amm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om 15-313, Telephone 87651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Room 15-329B, Telephone 87652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ail: hesham@itc.uob.b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ice hours: SMW 11-12am, U 1-2p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site: </a:t>
            </a: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www.alammal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s.yahoo.com/group/itcs4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6B83-0512-4C49-9C70-F158ABD4E2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u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2060640"/>
            <a:ext cx="7772400" cy="36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“</a:t>
            </a:r>
            <a:r>
              <a:rPr b="0" lang="en-US" sz="2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e HrQe to discover secrets is deeKZV iDQrJiDed iD hHYJD DJtHre; eveD the ZeJst cHrioHs YiDd is roHsed LV the KroYise oI shJriDQ RDoOZedQe OithheZd IroY other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4154-6D1D-45EA-B1A1-6162328FDBD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noalphabetic Ciph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rge to discover secrets is deeply ingrained in human nature; even the least curious mind is roused by the promise of sharing knowledge withheld from other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John Chadwick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Decipherment of Linear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5401-090A-44B3-9C64-165CF6AF2A7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was it so easy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2060280"/>
            <a:ext cx="777240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n’t hide statistical properties of plai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n’t hide relationships in plaintext (EE cannot match d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glish (and all natural languages) are very redundant: about 1.3 bits of information per le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ress English with gzip – about 1: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F16B-42B0-42B3-8529-FBABA148D87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6996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o make it harder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844640"/>
            <a:ext cx="77724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me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de statistical properti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rypt “e” with 12 different symbols, “t” with 9 different symbol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nulls, remove sp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yalphbetic cip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different substit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amble order of let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227B-7039-44EE-8FBE-A668F9BA1EA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ttack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15920"/>
            <a:ext cx="777240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phertext-only - How much Ciphertex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n Plaintext - often “Guessed Plaintex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sen Plaintext (get ciphertex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s uncommon as it sound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sen Ciphertext (get plaintex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mpster 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bber-hose cryptanalysi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yptanalyst uses threats, blackmail, torture, bribery to get the ke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826920" y="4149720"/>
            <a:ext cx="7880040" cy="2231640"/>
            <a:chOff x="826920" y="4149720"/>
            <a:chExt cx="7880040" cy="2231640"/>
          </a:xfrm>
        </p:grpSpPr>
        <p:sp>
          <p:nvSpPr>
            <p:cNvPr id="316" name=""/>
            <p:cNvSpPr/>
            <p:nvPr/>
          </p:nvSpPr>
          <p:spPr>
            <a:xfrm>
              <a:off x="826920" y="4183200"/>
              <a:ext cx="7701840" cy="2198160"/>
            </a:xfrm>
            <a:prstGeom prst="rect">
              <a:avLst/>
            </a:prstGeom>
            <a:noFill/>
            <a:ln w="2556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79280" y="4149720"/>
              <a:ext cx="4027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ff99"/>
                  </a:solidFill>
                  <a:latin typeface="Arial"/>
                </a:rPr>
                <a:t>Not recommended in ITCS41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8CCC-FC9F-404E-AEFB-66D0F7287C3B}" type="slidenum">
              <a:t>24</a:t>
            </a:fld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08000" y="176040"/>
            <a:ext cx="624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eally Brief History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rst 4000 ye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541008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68480" y="347328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fe1ff"/>
                </a:solidFill>
                <a:latin typeface="Arial"/>
              </a:rPr>
              <a:t>Cryptograph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46960" y="47563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Cryptanalys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523880" y="3746520"/>
            <a:ext cx="3489480" cy="216000"/>
          </a:xfrm>
          <a:prstGeom prst="line">
            <a:avLst/>
          </a:prstGeom>
          <a:ln w="19080">
            <a:solidFill>
              <a:srgbClr val="a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066680" y="541008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92920" y="550872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000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919880" y="3930480"/>
            <a:ext cx="152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noalphabetic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43000" y="5257800"/>
            <a:ext cx="2362320" cy="0"/>
          </a:xfrm>
          <a:prstGeom prst="line">
            <a:avLst/>
          </a:prstGeom>
          <a:ln w="1908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21640" y="55627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9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505320" y="541008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505320" y="3123720"/>
            <a:ext cx="152280" cy="2133720"/>
          </a:xfrm>
          <a:prstGeom prst="line">
            <a:avLst/>
          </a:prstGeom>
          <a:ln w="1908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540960" y="4950000"/>
            <a:ext cx="241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-Kindi - frequency analys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3657600" y="2863440"/>
            <a:ext cx="4368960" cy="260280"/>
          </a:xfrm>
          <a:prstGeom prst="line">
            <a:avLst/>
          </a:prstGeom>
          <a:ln w="1908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632120" y="3798720"/>
            <a:ext cx="290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berti – first polyalphabetic ciph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980240" y="5562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46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313240" y="541008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013360" y="2057040"/>
            <a:ext cx="609480" cy="1684440"/>
          </a:xfrm>
          <a:prstGeom prst="line">
            <a:avLst/>
          </a:prstGeom>
          <a:ln w="19080">
            <a:solidFill>
              <a:srgbClr val="a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575240" y="2325600"/>
            <a:ext cx="8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genè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28480" y="5562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85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061480" y="541008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14920" y="1676520"/>
            <a:ext cx="3300480" cy="380880"/>
          </a:xfrm>
          <a:prstGeom prst="line">
            <a:avLst/>
          </a:prstGeom>
          <a:ln w="19080">
            <a:solidFill>
              <a:srgbClr val="a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8032680" y="658440"/>
            <a:ext cx="263520" cy="2197080"/>
          </a:xfrm>
          <a:prstGeom prst="line">
            <a:avLst/>
          </a:prstGeom>
          <a:ln w="1908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696720" y="3092400"/>
            <a:ext cx="229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bbage breaks Vigenè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asiski (1863) publish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8290080" y="636480"/>
            <a:ext cx="653760" cy="23760"/>
          </a:xfrm>
          <a:prstGeom prst="line">
            <a:avLst/>
          </a:prstGeom>
          <a:ln w="1908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AF18-A4B2-44E5-A661-9D994807812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8000" y="175680"/>
            <a:ext cx="624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lly Brief History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st 100 yea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90720" y="541008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240" y="472428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fe1ff"/>
                </a:solidFill>
                <a:latin typeface="Arial"/>
              </a:rPr>
              <a:t>Cryptograph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46960" y="376560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Cryptanalys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1066680" y="5105520"/>
            <a:ext cx="1219320" cy="63360"/>
          </a:xfrm>
          <a:prstGeom prst="line">
            <a:avLst/>
          </a:prstGeom>
          <a:ln w="19080">
            <a:solidFill>
              <a:srgbClr val="a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066680" y="541008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066680" y="4267080"/>
            <a:ext cx="2438640" cy="76320"/>
          </a:xfrm>
          <a:prstGeom prst="line">
            <a:avLst/>
          </a:prstGeom>
          <a:ln w="1908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59240" y="55468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85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2286000" y="3123720"/>
            <a:ext cx="533520" cy="1971720"/>
          </a:xfrm>
          <a:prstGeom prst="line">
            <a:avLst/>
          </a:prstGeom>
          <a:ln w="19080">
            <a:solidFill>
              <a:srgbClr val="a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320920" y="541008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013480" y="55468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1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2286000" y="1523520"/>
            <a:ext cx="0" cy="3581640"/>
          </a:xfrm>
          <a:prstGeom prst="line">
            <a:avLst/>
          </a:prstGeom>
          <a:ln cap="rnd" w="19080">
            <a:solidFill>
              <a:srgbClr val="afe1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352960" y="145080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uborgne – one-time p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432160" y="4419720"/>
            <a:ext cx="24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chanical ciphers - Enig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540240" y="541008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32440" y="55468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3487680" y="2976120"/>
            <a:ext cx="117360" cy="1290600"/>
          </a:xfrm>
          <a:prstGeom prst="line">
            <a:avLst/>
          </a:prstGeom>
          <a:ln w="1908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551400" y="3465360"/>
            <a:ext cx="211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jewski repeated message-key atta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2798640" y="3075120"/>
            <a:ext cx="987480" cy="55440"/>
          </a:xfrm>
          <a:prstGeom prst="line">
            <a:avLst/>
          </a:prstGeom>
          <a:ln w="19080">
            <a:solidFill>
              <a:srgbClr val="a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191120" y="2666880"/>
            <a:ext cx="258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uring’s loop attacks, Coloss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3786120" y="2627280"/>
            <a:ext cx="117720" cy="447840"/>
          </a:xfrm>
          <a:prstGeom prst="line">
            <a:avLst/>
          </a:prstGeom>
          <a:ln w="19080">
            <a:solidFill>
              <a:srgbClr val="a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94000" y="2549520"/>
            <a:ext cx="334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igma adds rotors, stops repeated ke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3608280" y="2895120"/>
            <a:ext cx="525600" cy="79560"/>
          </a:xfrm>
          <a:prstGeom prst="line">
            <a:avLst/>
          </a:prstGeom>
          <a:ln w="1908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4122720" y="2341080"/>
            <a:ext cx="163440" cy="546120"/>
          </a:xfrm>
          <a:prstGeom prst="line">
            <a:avLst/>
          </a:prstGeom>
          <a:ln w="1908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3898800" y="2514240"/>
            <a:ext cx="1816200" cy="119160"/>
          </a:xfrm>
          <a:prstGeom prst="line">
            <a:avLst/>
          </a:prstGeom>
          <a:ln w="19080">
            <a:solidFill>
              <a:srgbClr val="a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270320" y="542592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62880" y="5562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4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4267080" y="2238480"/>
            <a:ext cx="2173320" cy="123840"/>
          </a:xfrm>
          <a:prstGeom prst="line">
            <a:avLst/>
          </a:prstGeom>
          <a:ln w="1908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786280" y="2362320"/>
            <a:ext cx="217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eistel block cipher, 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703840" y="1912680"/>
            <a:ext cx="109440" cy="592200"/>
          </a:xfrm>
          <a:prstGeom prst="line">
            <a:avLst/>
          </a:prstGeom>
          <a:ln w="19080">
            <a:solidFill>
              <a:srgbClr val="a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6426360" y="1933200"/>
            <a:ext cx="66600" cy="304920"/>
          </a:xfrm>
          <a:prstGeom prst="line">
            <a:avLst/>
          </a:prstGeom>
          <a:ln w="1908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791320" y="1828800"/>
            <a:ext cx="1218960" cy="63360"/>
          </a:xfrm>
          <a:prstGeom prst="line">
            <a:avLst/>
          </a:prstGeom>
          <a:ln w="19080">
            <a:solidFill>
              <a:srgbClr val="a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6477120" y="1828800"/>
            <a:ext cx="533160" cy="123840"/>
          </a:xfrm>
          <a:prstGeom prst="line">
            <a:avLst/>
          </a:prstGeom>
          <a:ln w="1908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357960" y="1957320"/>
            <a:ext cx="297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near, Differential Cryptanalys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7010280" y="1676160"/>
            <a:ext cx="1295640" cy="152280"/>
          </a:xfrm>
          <a:prstGeom prst="line">
            <a:avLst/>
          </a:prstGeom>
          <a:ln w="19080">
            <a:solidFill>
              <a:srgbClr val="99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7010280" y="1752480"/>
            <a:ext cx="1295640" cy="76320"/>
          </a:xfrm>
          <a:prstGeom prst="line">
            <a:avLst/>
          </a:prstGeom>
          <a:ln w="19080">
            <a:solidFill>
              <a:srgbClr val="afe1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7058160" y="1560240"/>
            <a:ext cx="1247760" cy="244440"/>
          </a:xfrm>
          <a:prstGeom prst="line">
            <a:avLst/>
          </a:prstGeom>
          <a:ln w="19080">
            <a:solidFill>
              <a:srgbClr val="afe1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383320" y="15238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521320" y="541008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213880" y="55468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7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49720" y="290340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-Ke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468200" y="898560"/>
            <a:ext cx="14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uantum Cryp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990720" y="533376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 flipV="1">
            <a:off x="914040" y="5257800"/>
            <a:ext cx="22860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3771-956B-4EC3-8F7D-2489FB242A3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mark 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160" y="1773000"/>
            <a:ext cx="830556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ms race between cryptographers and cryptanaly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, often disconnect between two (e.g., Mary Queen of Scots uses monoalphabetic cipher long after known breakab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disciplinary fi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guists, mathematicians, computer scientists, physic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recy often means advances rediscovered and miscredi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9D4A-F40B-4D94-9FC9-9534F9A29D7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mark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inated by needs of government: war is the great cataly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yptanalysis advances led by most threatened countri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nce (1800s), Poland (1930s), England/US (WWII), Israel? (Toda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711E-050D-4567-A35C-44627B0F3B7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curity vs. Pragmatis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2060280"/>
            <a:ext cx="77724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de-off between security and eff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-time pad: perfect security, but requires distribution and secrecy of long k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: short key, fast algorithm, but break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tum cryptography: perfect security, guaranteed secrecy of key, slow, requires expensive hard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spend $10M to protect $1M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protect $1B with encryption that can be broken for $1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B2CB-CC82-4CB0-8836-846170AF5E7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urse Overvie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ryptography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mmetric key (conventional), public k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plication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sswords, message authentication, secret sharing, zero-knowledge proof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onic voting, digital cas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System Security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cess contr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rusion dete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ruses and other intrud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rewal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EF60-0D9E-4072-B3D5-E5ED492613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you should register this cours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s an important subjec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yptography is very important for computer secur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ic privacy, e-cas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llectual curiosit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like playing with puzzles and learning new thin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’s fu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ant to find a good job and make mone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 security is a growing need for every instit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inesses pay lots of money for being saf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1F96-E5B6-48CA-8B5A-1EE9372312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d reasons for taking this course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ant to break into the computer of the registration at UOB and change your gr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ant to steal money by accessing your bank’s compu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ant to write the world’s most destructive vir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ant to prove how insecure MS Windows 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asn’t anything else to tak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8069-97D6-46FC-AC76-4F2E35285E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Cryptology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k: Krypto = H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yptology = Science of Hiding, include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yptography, cryptanalysis, steganograph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yptography = secret wr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yptanalysis = analyzing and breaking co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pher = wha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yptanalysis = wha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ganography = Covered mesag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61E5-3920-46AB-9130-0326B8E4F0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yptology vs. Secur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yptology is a subject in mathema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al proofs and pres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ofs can be peer review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urity is a system iss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uses cryptography and other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iest way to violate security is through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FBFF-986E-42A7-B02C-35C15E2653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09960" y="2637000"/>
            <a:ext cx="137160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ry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468760" y="2639880"/>
            <a:ext cx="1371600" cy="914400"/>
          </a:xfrm>
          <a:prstGeom prst="rect">
            <a:avLst/>
          </a:prstGeom>
          <a:solidFill>
            <a:srgbClr val="ffc8b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y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8" name=""/>
          <p:cNvCxnSpPr>
            <a:stCxn id="226" idx="3"/>
            <a:endCxn id="227" idx="1"/>
          </p:cNvCxnSpPr>
          <p:nvPr/>
        </p:nvCxnSpPr>
        <p:spPr>
          <a:xfrm>
            <a:off x="3481560" y="3094200"/>
            <a:ext cx="1987920" cy="3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460080" y="286560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534840" y="263052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pher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1" name=""/>
          <p:cNvCxnSpPr>
            <a:stCxn id="229" idx="3"/>
            <a:endCxn id="226" idx="1"/>
          </p:cNvCxnSpPr>
          <p:nvPr/>
        </p:nvCxnSpPr>
        <p:spPr>
          <a:xfrm>
            <a:off x="1811160" y="3093840"/>
            <a:ext cx="29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2" name=""/>
          <p:cNvSpPr/>
          <p:nvPr/>
        </p:nvSpPr>
        <p:spPr>
          <a:xfrm>
            <a:off x="7183080" y="286848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3" name=""/>
          <p:cNvCxnSpPr>
            <a:stCxn id="227" idx="3"/>
            <a:endCxn id="232" idx="1"/>
          </p:cNvCxnSpPr>
          <p:nvPr/>
        </p:nvCxnSpPr>
        <p:spPr>
          <a:xfrm>
            <a:off x="6840360" y="3096720"/>
            <a:ext cx="340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4" name=""/>
          <p:cNvSpPr/>
          <p:nvPr/>
        </p:nvSpPr>
        <p:spPr>
          <a:xfrm>
            <a:off x="849600" y="493704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273440" y="4981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3581280"/>
            <a:ext cx="1066680" cy="1295640"/>
          </a:xfrm>
          <a:prstGeom prst="smileyFace">
            <a:avLst>
              <a:gd name="adj" fmla="val 9282"/>
            </a:avLst>
          </a:prstGeom>
          <a:solidFill>
            <a:srgbClr val="ffc8b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86600" y="3581280"/>
            <a:ext cx="1066680" cy="1295640"/>
          </a:xfrm>
          <a:prstGeom prst="smileyFace">
            <a:avLst>
              <a:gd name="adj" fmla="val 9282"/>
            </a:avLst>
          </a:prstGeom>
          <a:solidFill>
            <a:srgbClr val="fefc9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3962520"/>
            <a:ext cx="257040" cy="152280"/>
          </a:xfrm>
          <a:prstGeom prst="ellipse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66680" y="3994200"/>
            <a:ext cx="92160" cy="763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43160" y="3962520"/>
            <a:ext cx="257040" cy="152280"/>
          </a:xfrm>
          <a:prstGeom prst="ellipse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19120" y="3994200"/>
            <a:ext cx="92160" cy="763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62720" y="3962520"/>
            <a:ext cx="257400" cy="152280"/>
          </a:xfrm>
          <a:prstGeom prst="ellipse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39040" y="3994200"/>
            <a:ext cx="9216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67640" y="3962520"/>
            <a:ext cx="257040" cy="152280"/>
          </a:xfrm>
          <a:prstGeom prst="ellipse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743960" y="3994200"/>
            <a:ext cx="9180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657600" y="3352680"/>
            <a:ext cx="1676520" cy="1860120"/>
            <a:chOff x="3657600" y="3352680"/>
            <a:chExt cx="1676520" cy="1860120"/>
          </a:xfrm>
        </p:grpSpPr>
        <p:sp>
          <p:nvSpPr>
            <p:cNvPr id="247" name=""/>
            <p:cNvSpPr/>
            <p:nvPr/>
          </p:nvSpPr>
          <p:spPr>
            <a:xfrm>
              <a:off x="3657600" y="3581280"/>
              <a:ext cx="380880" cy="533520"/>
            </a:xfrm>
            <a:prstGeom prst="ellipse">
              <a:avLst/>
            </a:prstGeom>
            <a:solidFill>
              <a:srgbClr val="ffc8b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952880" y="3657600"/>
              <a:ext cx="381240" cy="533520"/>
            </a:xfrm>
            <a:prstGeom prst="ellipse">
              <a:avLst/>
            </a:prstGeom>
            <a:solidFill>
              <a:srgbClr val="ffc8b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58360" y="475308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v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62520" y="3352680"/>
              <a:ext cx="1066680" cy="1295640"/>
            </a:xfrm>
            <a:prstGeom prst="smileyFace">
              <a:avLst>
                <a:gd name="adj" fmla="val 9282"/>
              </a:avLst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38640" y="3733920"/>
              <a:ext cx="257040" cy="152280"/>
            </a:xfrm>
            <a:prstGeom prst="ellipse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14960" y="3765600"/>
              <a:ext cx="91800" cy="76320"/>
            </a:xfrm>
            <a:prstGeom prst="ellipse">
              <a:avLst/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543560" y="3733920"/>
              <a:ext cx="257040" cy="152280"/>
            </a:xfrm>
            <a:prstGeom prst="ellipse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9520" y="3765600"/>
              <a:ext cx="92160" cy="76320"/>
            </a:xfrm>
            <a:prstGeom prst="ellipse">
              <a:avLst/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3205080" y="205740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ecure Chan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41000" y="4997520"/>
            <a:ext cx="285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= E(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 = D(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 must be invert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AE84-97C1-4B6E-BECB-59952C25AF41}" type="slidenum">
              <a:t>8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yptograph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ways involves 2 thing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r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F0A9-1E06-4C80-ADD5-0E81CA66BAE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9T18:45:30Z</dcterms:created>
  <dc:creator>H M A</dc:creator>
  <dc:description/>
  <dc:language>en-US</dc:language>
  <cp:lastModifiedBy>Creative</cp:lastModifiedBy>
  <dcterms:modified xsi:type="dcterms:W3CDTF">2005-02-28T05:46:10Z</dcterms:modified>
  <cp:revision>21</cp:revision>
  <dc:subject/>
  <dc:title>CSC 371 Cryptography and Data Security</dc:title>
</cp:coreProperties>
</file>