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786D-3B12-4FA3-83A6-C9CBDC398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6EB9-53F7-4D44-986B-DA6F1EF85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1D4F-7F2C-4B33-83F1-E49D7D902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7F5B-81BB-4B6B-A81C-7963E5CD7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05CF-3F8A-43C3-9C67-8E4CF3471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D136-7267-432B-8C1F-723056F7C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DC30-2BC7-42A7-993D-8C24C991E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CDEC-D0AC-4002-9BAE-458DADA91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421E-2A82-42DF-8291-B89FC516B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57EF-8E87-4A5C-BEDB-6344FFAA9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760E-B631-41BC-BE60-F585DB0B5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701A-4801-4DBD-8CAF-1ACD55646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3214-408B-4CF0-B7F9-4B72A5A33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A049-8CF8-445F-9BBB-19D5D918A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36C-26D3-466B-A93E-7C51D0D7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305-0692-408B-BDC4-11E37800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799-9E92-465C-B0C1-F20F919C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A6B-405F-4969-B3F1-AC6C70DE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CAF-B905-4B05-BC24-75D0D93B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21F-67A4-4426-9029-8728B853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E03-2157-4AD0-A784-3BAFD176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44A-42EE-4530-A464-AAE7EED9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C82-1FD4-4553-9A17-3860D80F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E6FE-2FAD-4D91-BEFC-AB8894C4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237-A8D1-49E9-9187-B59B5F3A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00E-AD30-450A-903E-EC80A9C1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9A1B-33C7-4CE0-8919-CA3A2E011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mputer" TargetMode="External"/><Relationship Id="rId2" Type="http://schemas.openxmlformats.org/officeDocument/2006/relationships/hyperlink" Target="http://en.wikipedia.org/wiki/Interne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etwork_intrusion_detection_system" TargetMode="External"/><Relationship Id="rId2" Type="http://schemas.openxmlformats.org/officeDocument/2006/relationships/hyperlink" Target="http://en.wikipedia.org/wiki/Protocol-based_intrusion_detection_system" TargetMode="External"/><Relationship Id="rId3" Type="http://schemas.openxmlformats.org/officeDocument/2006/relationships/hyperlink" Target="http://en.wikipedia.org/wiki/Application_protocol-based_intrusion_detection_system" TargetMode="External"/><Relationship Id="rId4" Type="http://schemas.openxmlformats.org/officeDocument/2006/relationships/hyperlink" Target="http://en.wikipedia.org/wiki/Host-based_intrusion_detection_system" TargetMode="External"/><Relationship Id="rId5" Type="http://schemas.openxmlformats.org/officeDocument/2006/relationships/hyperlink" Target="http://en.wikipedia.org/w/index.php?title=Hybrid_intrusion_detection_system&amp;action=edit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ree_software" TargetMode="External"/><Relationship Id="rId2" Type="http://schemas.openxmlformats.org/officeDocument/2006/relationships/hyperlink" Target="http://en.wikipedia.org/wiki/Open_source" TargetMode="External"/><Relationship Id="rId3" Type="http://schemas.openxmlformats.org/officeDocument/2006/relationships/hyperlink" Target="http://en.wikipedia.org/wiki/Network_intrusion_detection_system" TargetMode="External"/><Relationship Id="rId4" Type="http://schemas.openxmlformats.org/officeDocument/2006/relationships/hyperlink" Target="http://en.wikipedia.org/wiki/Intrusion_Prevention_System" TargetMode="External"/><Relationship Id="rId5" Type="http://schemas.openxmlformats.org/officeDocument/2006/relationships/hyperlink" Target="http://en.wikipedia.org/wiki/Packet" TargetMode="External"/><Relationship Id="rId6" Type="http://schemas.openxmlformats.org/officeDocument/2006/relationships/hyperlink" Target="http://en.wikipedia.org/wiki/Traffic_analysis" TargetMode="External"/><Relationship Id="rId7" Type="http://schemas.openxmlformats.org/officeDocument/2006/relationships/hyperlink" Target="http://en.wikipedia.org/wiki/Internet_Protocol" TargetMode="External"/><Relationship Id="rId8" Type="http://schemas.openxmlformats.org/officeDocument/2006/relationships/hyperlink" Target="http://en.wikipedia.org/wiki/Computer_network" TargetMode="External"/><Relationship Id="rId9" Type="http://schemas.openxmlformats.org/officeDocument/2006/relationships/hyperlink" Target="http://en.wikipedia.org/wiki/September_25" TargetMode="External"/><Relationship Id="rId10" Type="http://schemas.openxmlformats.org/officeDocument/2006/relationships/hyperlink" Target="http://en.wikipedia.org/wiki/2007" TargetMode="External"/><Relationship Id="rId11" Type="http://schemas.openxmlformats.org/officeDocument/2006/relationships/hyperlink" Target="http://en.wikipedia.org/w/index.php?title=Martin_Roesch&amp;action=edit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uffer_overflow" TargetMode="External"/><Relationship Id="rId2" Type="http://schemas.openxmlformats.org/officeDocument/2006/relationships/hyperlink" Target="http://en.wikipedia.org/wiki/Port_scan" TargetMode="External"/><Relationship Id="rId3" Type="http://schemas.openxmlformats.org/officeDocument/2006/relationships/hyperlink" Target="http://en.wikipedia.org/wiki/Server_Message_Block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ppliedwatch.com/" TargetMode="External"/><Relationship Id="rId2" Type="http://schemas.openxmlformats.org/officeDocument/2006/relationships/hyperlink" Target="http://sguil.sourceforge.net/" TargetMode="External"/><Relationship Id="rId3" Type="http://schemas.openxmlformats.org/officeDocument/2006/relationships/hyperlink" Target="http://www.activeworx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CS 412 – Lab on NID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s from Wikipedia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d Network Security Hacks (Oriell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143000" y="884160"/>
            <a:ext cx="701028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 install Snort with BASE on Window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arget is a standalone Snort serv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tall WinPc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tall and configure sn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 the snort install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tall Apache (Remove I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tall and configure PH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 Apache and PH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figure snort as a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tall and configure MySQ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 the Snort databa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 the Snort database t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 the database access and authenticated 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eck that Snort and MySQL are operat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Latest WinIDS AIO P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Snort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Ver: 2.8.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WinPcap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Ver: 4.0.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ySQL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Ver: 5.0.4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BASE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Ver: 1.3.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HP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Ver: 5.2.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DODB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Ver: 496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pache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Ver: 2.2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 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lete installation of snort on Window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 WinI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uidelines for installation is available at http://www.winsnort.com/index.php?name=Sections&amp;req=viewarticle&amp;artid=5&amp;page=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test AIO package at http://www.winsnort.com/index.php?name=Downloads&amp;req=viewsdownload&amp;sid=2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clud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s of &lt;= 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 account in lab S40-205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ood luck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an Network Intrusion Detection System (NIDS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 to the forefront recent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usion detection syst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generally detects unwanted manipulations of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mputer syste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mainly through t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ntern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s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ypes of Intrusion-Detection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network intrusion detection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n independent platform which identifies intrusions by examining network traffic and monitors multiple hos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rotocol-based intrusion detection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sists of a system or agent that would typically sit at the front end of a server, monitoring and analyzing the communication protocol between a connected device (a user/PC or system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pplication protocol-based intrusion detection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sists of a system or agent that would typically sit within a group of servers, monitoring and analyzing the communication on application specific protoco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ost-based intrusion detection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sists of an agent on a host which identifies intrusions by analyzing system calls, application logs, file-system modifications (binaries, password files, capability/acl databases) and other host activities and st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ybrid intrusion detection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bines two or more approach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n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nor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free softw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pen sour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network intrusion detec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revention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pable of performing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acke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ogging 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al-time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traffic analys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etwork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8.0 /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eptember 25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200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Martin Roes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urcef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ort can per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ocol analysis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ent searching/matching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rusion prevention by dropping packets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ct a variety of attacks and probes, such 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buffer overflow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ealth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ort scan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b application attack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MB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robes, 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S fingerprinting attempt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mongst other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snort m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iffer m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 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ort User 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pplied Watch Command Cent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 Enterprise Open Source Security Management Suite for Snort (Free Version, and a Pay versio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gui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 An open source Tcl/Tk interface for network security monito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DS Policy Manag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 Snort Rules Manag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REBUS - ncurses command shell browser of unified snort lo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sic Analysis and Security Engine - An open source based Snort DB web analysis tool, replaces ACI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ort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revent snort from logging every packet, must include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ules -&gt; ba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sophisticated rules -&gt; Have to p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SE – Basic Analysis and Security Eng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aces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base.secureideas.ne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-based tool for analysis of snort lo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s statistics and enables tracing of IP addr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MySQL snort l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2:49:21Z</dcterms:created>
  <dc:creator> Hesham Al-Ammal</dc:creator>
  <dc:description/>
  <dc:language>en-US</dc:language>
  <cp:lastModifiedBy> Hesham Al-Ammal</cp:lastModifiedBy>
  <dcterms:modified xsi:type="dcterms:W3CDTF">2007-12-03T10:00:23Z</dcterms:modified>
  <cp:revision>7</cp:revision>
  <dc:subject/>
  <dc:title>ITCS 412 – Lab on NDISs</dc:title>
</cp:coreProperties>
</file>