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E05-6451-48C6-A883-BD77833F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678-4489-443D-B6E5-68D5F34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FAC-62BF-4503-B23A-7A7E39B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168-AC0C-4725-AEB3-FFC9EA64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4B5-CAD6-4610-A92B-DA7A4A01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622-77E7-4144-B11A-2A313740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4C9-1A49-4718-9DD2-C9F70FE4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CAC-F21E-46A8-869C-F39D1A2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901-AE65-4147-9704-BC97BAA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F6B-B9D4-45FA-B084-3C21EAB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4BD-6975-404E-95F5-ECD4F1B1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C9C-ADA3-47F9-BE55-2AC300D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65F-0839-461B-B3EB-BD1FAEA62043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ben4.wav" TargetMode="External"/><Relationship Id="rId4" Type="http://schemas.microsoft.com/office/2007/relationships/media" Target="file:///tmp/home/.config/libreoffice/4/user/gallery/ben4.wav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arth1" descr=""/>
          <p:cNvPicPr/>
          <p:nvPr/>
        </p:nvPicPr>
        <p:blipFill>
          <a:blip r:embed="rId2"/>
          <a:stretch/>
        </p:blipFill>
        <p:spPr>
          <a:xfrm>
            <a:off x="7238880" y="4038480"/>
            <a:ext cx="1638360" cy="2616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3333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ad Analysi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r Vertical Rescu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aramond"/>
              </a:rPr>
              <a:t>by Alan Sheehan B.E.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enior Vertical Rescue Trainer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Oberon Unit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New South Wales State Emergency Servi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1066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5" name="quigon2_bg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198108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easuring the Unknown Lo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tice that two fists placed as shown in the photo are the same length as 1 handspan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So each finger or knuckle is 10%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3" name="lshare8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44067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80880" y="228600"/>
            <a:ext cx="1173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p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easure the Fo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Use handspans, fistspans and knuckles measure the length of the arrow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emember the length represents how much force or load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7" name="lshare9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772080" cy="23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304920"/>
            <a:ext cx="262908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ave faith, Luke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share11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09572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e now know all the load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If the load on the rope is 200kgs, the white sling and anchor carries 110kgs, while the green one carries 140kgs.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Just mental arithmetic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304920"/>
            <a:ext cx="3505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y the force be with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ukeVsVader" descr=""/>
          <p:cNvPicPr/>
          <p:nvPr/>
        </p:nvPicPr>
        <p:blipFill>
          <a:blip r:embed="rId2"/>
          <a:stretch/>
        </p:blipFill>
        <p:spPr>
          <a:xfrm>
            <a:off x="1295280" y="4054320"/>
            <a:ext cx="3583080" cy="2579760"/>
          </a:xfrm>
          <a:prstGeom prst="rect">
            <a:avLst/>
          </a:prstGeom>
          <a:ln w="0">
            <a:noFill/>
          </a:ln>
        </p:spPr>
      </p:pic>
      <p:pic>
        <p:nvPicPr>
          <p:cNvPr id="94" name="lshare12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975120" cy="2578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e can even check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oss Loading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ake notice of the orientation of the krab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raw 2 lines each side of the triangle parallel to the spine of the krab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distance between is the amount of cross load! 40% in this case.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share12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75120" cy="2578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ind the Weakest Lin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Rope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: MBL=3000kgs, Load=200kgs - SF=3000/200=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15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(&gt;8 so OK)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Sling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 (doubled): MBL=5333, Load=140kgs - SF=5333/140=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38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Krab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: MBL=2000kgs, Load=200kgs - SF=2000/200=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10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(&gt;5 so OK)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Krab Cross Load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: MBL=600kgs, Load=80kgs - SF=600/80=</a:t>
            </a: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7.5! 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(&gt;5 so OK.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o the krab is the weakest link and would fail due to cross loading... </a:t>
            </a:r>
            <a:r>
              <a:rPr b="1" i="1" lang="en-US" sz="2800" spc="-1" strike="noStrike">
                <a:solidFill>
                  <a:srgbClr val="ff9900"/>
                </a:solidFill>
                <a:latin typeface="Garamond"/>
              </a:rPr>
              <a:t>if overloaded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48640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Note: SF=8 for rope, SF=5 for hardware used for this exampl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be applied to any Syste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Consider this pulley rigged as a tyrolea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known load is on the white tap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rope carries 180% of the load on the tape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4" name="pulley2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4514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gles make the Differenc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Here’s the same tyrolean rig, but with excessive sag to effectively make it a self equalising anchor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Notice the loads are now down to 60% of the known load.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7" name="pulley1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3409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ulley3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714840" cy="324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dire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In this case, the known load is on the rop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load in the rope does not change through the pulle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more bend in the rope, the more force on the redirection pulley, krab and anchor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AQ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at do we draw with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ith a finger or stick in the dirt, or a rock or chalk on rock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o we have to do this all the time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o. It’s a tool. Use it when you need it. Practice it, and you’ll be able to do it in your head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How accurate is this method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s accurate as you can draw it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ny Question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3" name="YODA2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726920" cy="2076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lshare12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975120" cy="2578320"/>
          </a:xfrm>
          <a:prstGeom prst="rect">
            <a:avLst/>
          </a:prstGeom>
          <a:ln w="0">
            <a:noFill/>
          </a:ln>
        </p:spPr>
      </p:pic>
      <p:pic>
        <p:nvPicPr>
          <p:cNvPr id="116" name="pulley2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4515120" cy="2590560"/>
          </a:xfrm>
          <a:prstGeom prst="rect">
            <a:avLst/>
          </a:prstGeom>
          <a:ln w="0">
            <a:noFill/>
          </a:ln>
        </p:spPr>
      </p:pic>
      <p:pic>
        <p:nvPicPr>
          <p:cNvPr id="117" name="pulley1" descr=""/>
          <p:cNvPicPr/>
          <p:nvPr/>
        </p:nvPicPr>
        <p:blipFill>
          <a:blip r:embed="rId4"/>
          <a:stretch/>
        </p:blipFill>
        <p:spPr>
          <a:xfrm>
            <a:off x="5486400" y="990720"/>
            <a:ext cx="3409920" cy="2070000"/>
          </a:xfrm>
          <a:prstGeom prst="rect">
            <a:avLst/>
          </a:prstGeom>
          <a:ln w="0">
            <a:noFill/>
          </a:ln>
        </p:spPr>
      </p:pic>
      <p:pic>
        <p:nvPicPr>
          <p:cNvPr id="118" name="pulley3" descr=""/>
          <p:cNvPicPr/>
          <p:nvPr/>
        </p:nvPicPr>
        <p:blipFill>
          <a:blip r:embed="rId5"/>
          <a:stretch/>
        </p:blipFill>
        <p:spPr>
          <a:xfrm>
            <a:off x="5181480" y="3352680"/>
            <a:ext cx="3714840" cy="3245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Practice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410080"/>
            <a:ext cx="7521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th practice this can be done mentall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04920"/>
            <a:ext cx="262908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ave faith, Luke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29000" y="4114800"/>
            <a:ext cx="3505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y the force be with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280" y="3048120"/>
            <a:ext cx="2522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ton said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410080" y="380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2448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hy Analyse Load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avoid overloading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improve rigging ski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ecause not all systems are symmetrical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understand how rigging affects load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find the highest loads in a syste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find the weakest link in a syste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o be safer riggers and rescuer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600"/>
            <a:ext cx="2332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458200" y="1295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ome Facts about R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ope cannot be used to PUSH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ope has no significant bending or shear stiffness </a:t>
            </a:r>
            <a:r>
              <a:rPr b="0" lang="en-US" sz="2000" spc="-1" strike="noStrike">
                <a:solidFill>
                  <a:srgbClr val="ff9900"/>
                </a:solidFill>
                <a:latin typeface="Garamond"/>
              </a:rPr>
              <a:t>(except when length approaches the diameter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Rope can only be used to PULL…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Hence the direction of TENSION in a rope is always along the rope!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00400" y="5486400"/>
            <a:ext cx="5470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get the Indian Rope Trick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52280"/>
            <a:ext cx="333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ground info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ic Equilibri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e desire rescue systems that are stable, static, do not go anywher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For every action, there is an equal and opposite reaction” - Sir Isaac Newto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o the load on the rope must be balanced by an equal load in the opposite directio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62720" y="5410080"/>
            <a:ext cx="2522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ton said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52280"/>
            <a:ext cx="333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ground info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ad Analysis! - H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Start with the load you know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raw lines and arrows parallel to the load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easure with your hands and finger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ork step by step through the syste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ivide MBL or SWL by the Load to find the Weakest Link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5410080"/>
            <a:ext cx="7521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th practice this can be done mentall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280"/>
            <a:ext cx="2727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Proced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share1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453384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rt with the Known Lo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Consider this Load Sharing Anchor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e know the Load we want to put on the rop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We want to know the loads on the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karabiner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sling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aramond"/>
              </a:rPr>
              <a:t>anchor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2280"/>
            <a:ext cx="11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p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raw the Known Lo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raw an arrow parallel to the known loa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ake it ONE HANDSPAN long as show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is represents 100% of the known loa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69" name="lshare4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4324320" cy="252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80880" y="228600"/>
            <a:ext cx="2797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el the force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5248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raw the Directions of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Unknown Lo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raw lines parallel to the unknown loads </a:t>
            </a:r>
            <a:r>
              <a:rPr b="0" lang="en-US" sz="2400" spc="-1" strike="noStrike">
                <a:solidFill>
                  <a:srgbClr val="ff9900"/>
                </a:solidFill>
                <a:latin typeface="Garamond"/>
              </a:rPr>
              <a:t>(in this case, the slings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One must start at the head of the arrow, the other at the tai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y must intersec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74" name="lshare6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4406760" cy="250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228600"/>
            <a:ext cx="115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p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iwanvs" descr=""/>
          <p:cNvPicPr/>
          <p:nvPr/>
        </p:nvPicPr>
        <p:blipFill>
          <a:blip r:embed="rId2"/>
          <a:stretch/>
        </p:blipFill>
        <p:spPr>
          <a:xfrm>
            <a:off x="1143000" y="4451400"/>
            <a:ext cx="464832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lshare7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4140360" cy="2463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raw the “Vectors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raw arrowheads on the sides of the triangle to show the direction of the forces (loads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y must ALL be head to tai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The length of each arrow represents the amount of force (load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6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rth Vec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07:10:37Z</dcterms:created>
  <dc:creator>Alan Sheehan</dc:creator>
  <dc:description/>
  <dc:language>en-US</dc:language>
  <cp:lastModifiedBy>Alan Sheehan</cp:lastModifiedBy>
  <dcterms:modified xsi:type="dcterms:W3CDTF">2001-07-14T01:29:33Z</dcterms:modified>
  <cp:revision>5</cp:revision>
  <dc:subject/>
  <dc:title>Load Analysis for Vertical Rescuers</dc:title>
</cp:coreProperties>
</file>